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B2AA-2DA4-4719-831C-507CB525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0102-17A4-45A3-96E4-DE8E19FD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AD1F-0BE3-4E2A-B9EA-7FCD7567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8C2B-65EF-49FF-8F3E-9C37CC5C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3FFE-A904-4052-BF57-28CB4A13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2CF9-3329-4359-9C48-4A8DF2F3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CB5B-378C-4616-8666-A2C649E5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BB55-BCD6-44EB-A37B-70813C1C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BB7-4B5D-4E34-882D-6420D570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A6BB-C1F2-4E1B-8B7E-A721F9EB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07F1-F770-4CFF-BBA1-FB234B1E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4C2-B2C7-460C-8C0A-6988F93B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0E2C-ABF3-41A7-A0F4-8269EF20F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cc00"/>
                </a:solidFill>
                <a:latin typeface="Arial"/>
              </a:rPr>
              <a:t>Me llamo _____________     Clase 6nh(602)</a:t>
            </a:r>
            <a:br>
              <a:rPr sz="3400"/>
            </a:br>
            <a:r>
              <a:rPr b="0" lang="en-US" sz="3400" spc="-1" strike="noStrike">
                <a:solidFill>
                  <a:srgbClr val="99cc00"/>
                </a:solidFill>
                <a:latin typeface="Arial"/>
              </a:rPr>
              <a:t>La fecha es el 14 de marzo del 201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omo repasamos para el examen de mañan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2286000"/>
            <a:ext cx="89917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es-ES" sz="2800" spc="-1" strike="noStrike">
                <a:solidFill>
                  <a:srgbClr val="00b050"/>
                </a:solidFill>
                <a:latin typeface="Arial"/>
              </a:rPr>
              <a:t>I-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py &amp; answer in full Spanish sente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Cuantos jugadores hay en el equipo de futbol? (o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Cuántos tiempos hay en un partido de futbol? (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ién guarda la portería? (el port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. ¿Cuándo mete un gol el jugador? (cuando el balón entra en la porter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5. ¿Qué marca un jugador cuando el balón entra en la portería? (un ta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6. En el estadio, ¿Qué indica el tanto? (el tablero indic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7. ¿Cuándo queda empatado el tanto? (cuando los dos equipos tienen el mismo ta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Arial"/>
              </a:rPr>
              <a:t>II.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baloncesto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Es el baloncesto un deporte de equipo o un deporte individu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Hay cinco u once jugadores en el equipo de balonce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urante un partido de baloncesto, ¿los jugadores driblan con el balón o lanzan el balón con el p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. ¿El jugador tira el balón en el cesto o en la porte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5. ¿Marca un tanto cuando dribla o cuando ences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6. ¿El encestado (canasto) vale dos puntos o se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III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éisb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ose the correct 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uegan al béisbol en ____de béis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 un camp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. una canch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. un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pícher ____ la pelo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 lanz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b. encest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         c. ba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receptor atrapa la pelota en 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 una re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b. un ces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         c. un gu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jugador _____ de una base a ot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 ti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b. devuelv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c. co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l béisbol el jugador ____ robar una 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 pued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b. tiene qu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. nec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un partido de béisbol  hay _____ ent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 d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. nuev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c.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579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b050"/>
                </a:solidFill>
                <a:latin typeface="Arial"/>
              </a:rPr>
              <a:t>IV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e with the correct forms of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jug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teresar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Be sure to use the correct pronoun with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teres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 con muchos equipos porque ____ interes____ los depo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 no ________ con el equipo porque no ____ interes____ el depo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no ________ baloncesto porque no _____ interes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DUE WEDNESDAY, APRIL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ia para el EXAMEN del Capitulo 1 el PROXIMO LU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book: p. 2-29; p.34-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fut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ue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, O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beis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baloncesto,basquet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deportes en el mundo hisp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opa Mund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Anat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03:29:36Z</dcterms:created>
  <dc:creator>Helen Zumaeta</dc:creator>
  <dc:description/>
  <dc:language>en-US</dc:language>
  <cp:lastModifiedBy>Helen Zumaeta</cp:lastModifiedBy>
  <cp:lastPrinted>2013-03-14T12:30:52Z</cp:lastPrinted>
  <dcterms:modified xsi:type="dcterms:W3CDTF">2013-03-18T18:24:33Z</dcterms:modified>
  <cp:revision>22</cp:revision>
  <dc:subject/>
  <dc:title>Me llamo _______  Clase 7 IM La fecha es el 11 de marzo del 2011</dc:title>
</cp:coreProperties>
</file>